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8.jpeg" ContentType="image/jpeg"/>
  <Override PartName="/ppt/media/image6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5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573D-24DF-44A0-B279-DAA4CD04C8F8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15B-4223-4D7A-B48A-03E77345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5B3-2D0E-44DA-9F7F-667B1166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6E2C-B282-4B35-9297-40CD8E9F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C1B-A81F-4878-9182-A8171132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EAAB-81D5-40D0-A2AC-EDD0659E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7F4C-6BA0-4070-8979-C556BD8C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2C65-5838-4F8F-9346-B26CCF060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C45C-3D15-43A5-A88F-F0D34349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DA91-C5FD-4F35-80CB-8F3A171B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5783-FFCD-407C-871F-EC189355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83BB-165E-4CDC-B902-9763076E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821-832E-4AFE-837B-2CF0D2D8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8E86-3369-4FD7-ABC1-E9EFF1F2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C509E-D89B-43F3-9A43-7A735B36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33CB-54B9-4E2D-BFA9-908298B6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7321-52D4-4FFB-9E9F-E79A3101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2D6A-CE54-4D47-910D-A516FEDA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5D99-1AE1-4104-B1AC-A484B454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DE9E4-6086-487E-B599-762BA1A1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B433B-6321-4160-8922-26BDD059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8BB7A-FBEB-41D0-86F5-81228258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EACA4-F41A-449A-BF1C-C15FA26C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587-0ED4-4929-90AD-8D3AEA01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81850-7F49-440D-B218-D56A9EC8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9811B-D608-47C4-BA23-CFE522EA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BF5CB-E1FA-4AF4-A4C5-636BB88B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A9AF8-D2B1-427C-B4EE-0200519E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0288F-6892-4A49-8AD4-8773A7ED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74439-8F35-4537-8536-0A196254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AD4A-9887-4A06-AF62-BC4B47ED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F39F0-D097-4A14-8BFA-59A5AD47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C0758-80C7-4BAF-8C1C-9A163BCE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CA840-F3AF-4A37-BDCC-17C11271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C504-B76A-4E15-BC7F-1282BD14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881BC-65B9-4509-A233-FE13B561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2868D-9461-48FC-80C7-534550C5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ABB35-2B4B-41D4-BF01-D1D0E2346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B636A-B625-4B70-A368-3A849EAB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9C946-7850-47A1-924B-3D5D8862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05076-50F7-482A-BF42-F6BA68BC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DB609-F739-4495-8533-D9D1E0CA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21552-55BB-4FEE-8CBC-14A33AE32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7C206-DB8C-4B20-BE3E-158D75A5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5C1-48CD-4EB0-B3A0-CB3DA02F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98F-2523-4C48-8FA3-4197C0D7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971-7276-4526-8991-4CD51827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AE0-ED43-4EAC-A8B6-E424E663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184-819B-400E-A241-7D8CCC11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EA7D-356E-4431-8223-746A696BA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8F6A6-C1F7-491E-A931-F8356E7569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4BD2-76D9-4F75-9BAE-6B8656682C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050B-55A4-4993-8FBD-4829D328D5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                             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14000" y="6516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28600" y="1268280"/>
            <a:ext cx="891540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178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184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5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194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05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6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14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5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7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22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3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uevos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, 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, Páprika, Alcachofa sin espi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 – Anís, Linaza (Curahuas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, Artesa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7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5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39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3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0"/>
                            </p:stCondLst>
                            <p:childTnLst>
                              <p:par>
                                <p:cTn id="15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9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500"/>
                            </p:stCondLst>
                            <p:childTnLst>
                              <p:par>
                                <p:cTn id="16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500"/>
                            </p:stCondLst>
                            <p:childTnLst>
                              <p:par>
                                <p:cTn id="17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9" dur="500"/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21:33:27Z</dcterms:modified>
  <cp:revision>1159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12162445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